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4375-DF31-4FAC-8919-C723EAC56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9130-3A35-4602-BA7F-3BBB44A3C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6300-77F7-4162-914F-B5B9C3E36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A848-EB11-4899-A1F0-FFFD1F6EE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F642-EFC0-4143-91C6-744D6D79A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35DE-90AF-49A2-AA4B-BEC718263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39DE-7CBC-4C8F-A1B5-034D06D6F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74AD-9CBB-452E-96F0-5A0603DE6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D58D-5AA6-4A2B-87BE-AED467783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AB8C-FC1A-46B0-9420-ED02C7A7F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CDDF-0CCA-4B41-A550-46E8D1A02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AA44-6637-4DF3-878D-08B838AFC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14B0-1626-4967-A8D3-631B99466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4595-5534-4D46-9038-FA97C642B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D786-F0A8-4C8B-9A6E-6461BFF01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FFDF-07B7-4CD8-9BF5-A45350DD5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815F-6284-423D-BC88-D87738B78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E22E-BFB3-4993-ABCC-58C63E73E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C42E-AF49-4ABB-BA4F-4D224475B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1E16-00E3-4CC4-8B4F-0535A909B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F69B-93B9-44C3-87D6-6A1FCB889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9A5B-6B29-4E56-961D-2DC0BD831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4B64-C707-4195-A4EB-65E4DF935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4DD8-0B9D-44EA-9830-F55AC6AFF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6061-345E-43C5-8A84-34CE672AE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B6DF-E177-49E5-8C8D-7F9FFDBBC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878F-8AD4-47D2-91D8-8088A763C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B4E2-3896-4F9B-8658-125411699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7D7E-634B-446F-AB5A-318DBB7CB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39D6-EDC5-4C75-8380-E7DE6CE68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0B91-A047-4A59-BC95-630E39218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E0A4-D831-4588-83D6-38AE9D2E1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784F-C837-4E66-AC99-EC4C66061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C7F0-228D-454C-8E03-F65007FCC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AE3D-519B-4242-B210-1046D9AE6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0625-61E5-4686-AA8B-87EB7A2A9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888E-4DAE-4A87-B291-BBA6ECDED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40F-3BB4-4EF6-B73D-C05B9C9F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293-2360-4030-A301-D20FEB11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F8E5-E570-419A-888D-B8E8F167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56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14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56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14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32E-DFF3-4F91-952A-4288ED4E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683-E32F-4F25-AADF-29200C2B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E99-EEDA-49D2-A1B7-B1518783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7AA-73B2-433C-A2D3-CB7B5312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425-1870-4AC4-A9C1-88A923BD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240" y="759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44D-D14D-46B7-90AE-9762E7B4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DB67-BA57-41D2-9E07-ABBECEDF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3BF-2F88-48E6-85C4-22F1C683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7E2-6F97-42B4-B45D-9E4D78A6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6b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A1C8-CEA5-42EF-ADB1-89726DDF948D}" type="slidenum">
              <a:rPr b="0" lang="en-US" sz="14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475c"/>
                </a:solidFill>
                <a:latin typeface="Arial"/>
              </a:rPr>
              <a:t>NoodleBib</a:t>
            </a:r>
            <a:br>
              <a:rPr sz="4000"/>
            </a:br>
            <a:r>
              <a:rPr b="0" lang="en-US" sz="4000" spc="-1" strike="noStrike">
                <a:solidFill>
                  <a:srgbClr val="2a475c"/>
                </a:solidFill>
                <a:latin typeface="Arial"/>
              </a:rPr>
              <a:t>Create a [bibliography, source list…] </a:t>
            </a:r>
            <a:endParaRPr b="0" lang="en-US" sz="40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Julie S. Baun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Librarian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DuBois Area Middle Schoo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2_fill_form.pn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2666880" y="22860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Cut-and-paste to avoid spelling erro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Freeform 10"/>
          <p:cNvSpPr/>
          <p:nvPr/>
        </p:nvSpPr>
        <p:spPr>
          <a:xfrm rot="21330600">
            <a:off x="2342880" y="728280"/>
            <a:ext cx="2001600" cy="3470400"/>
          </a:xfrm>
          <a:custGeom>
            <a:avLst/>
            <a:gdLst>
              <a:gd name="textAreaLeft" fmla="*/ 0 w 2001600"/>
              <a:gd name="textAreaRight" fmla="*/ 2001960 w 2001600"/>
              <a:gd name="textAreaTop" fmla="*/ 0 h 3470400"/>
              <a:gd name="textAreaBottom" fmla="*/ 3470760 h 3470400"/>
            </a:gdLst>
            <a:ahLst/>
            <a:rect l="textAreaLeft" t="textAreaTop" r="textAreaRight" b="textAreaBottom"/>
            <a:pathLst>
              <a:path w="1544" h="1488">
                <a:moveTo>
                  <a:pt x="1544" y="0"/>
                </a:moveTo>
                <a:cubicBezTo>
                  <a:pt x="924" y="164"/>
                  <a:pt x="304" y="328"/>
                  <a:pt x="152" y="576"/>
                </a:cubicBezTo>
                <a:cubicBezTo>
                  <a:pt x="0" y="824"/>
                  <a:pt x="552" y="1336"/>
                  <a:pt x="632" y="14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2_fill_form.pn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2666880" y="22860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Get help on each fiel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75" name="Straight Arrow Connector 8"/>
          <p:cNvCxnSpPr/>
          <p:nvPr/>
        </p:nvCxnSpPr>
        <p:spPr>
          <a:xfrm>
            <a:off x="3275640" y="685800"/>
            <a:ext cx="1524600" cy="3658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2_fill_form.pn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3_help_popup.png"/>
          <p:cNvPicPr/>
          <p:nvPr/>
        </p:nvPicPr>
        <p:blipFill>
          <a:blip r:embed="rId2"/>
          <a:stretch/>
        </p:blipFill>
        <p:spPr>
          <a:xfrm>
            <a:off x="3746520" y="457200"/>
            <a:ext cx="5322960" cy="464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8" name="Rectangle 14"/>
          <p:cNvSpPr/>
          <p:nvPr/>
        </p:nvSpPr>
        <p:spPr>
          <a:xfrm>
            <a:off x="1828800" y="3352680"/>
            <a:ext cx="4495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lp pops up!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2_fill_form.pn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2666880" y="22860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Some fields are require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5638680" y="4419720"/>
            <a:ext cx="19051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4_annotation.png"/>
          <p:cNvPicPr/>
          <p:nvPr/>
        </p:nvPicPr>
        <p:blipFill>
          <a:blip r:embed="rId1"/>
          <a:stretch/>
        </p:blipFill>
        <p:spPr>
          <a:xfrm>
            <a:off x="141120" y="0"/>
            <a:ext cx="88617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581280" y="3886200"/>
            <a:ext cx="3200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Add an annotation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4_annotation.png"/>
          <p:cNvPicPr/>
          <p:nvPr/>
        </p:nvPicPr>
        <p:blipFill>
          <a:blip r:embed="rId1"/>
          <a:stretch/>
        </p:blipFill>
        <p:spPr>
          <a:xfrm>
            <a:off x="141120" y="0"/>
            <a:ext cx="88617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Oval 6"/>
          <p:cNvSpPr/>
          <p:nvPr/>
        </p:nvSpPr>
        <p:spPr>
          <a:xfrm>
            <a:off x="2819520" y="2971800"/>
            <a:ext cx="25905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5_spelling.png"/>
          <p:cNvPicPr/>
          <p:nvPr/>
        </p:nvPicPr>
        <p:blipFill>
          <a:blip r:embed="rId1"/>
          <a:stretch/>
        </p:blipFill>
        <p:spPr>
          <a:xfrm>
            <a:off x="141120" y="0"/>
            <a:ext cx="88617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Oval 6"/>
          <p:cNvSpPr/>
          <p:nvPr/>
        </p:nvSpPr>
        <p:spPr>
          <a:xfrm>
            <a:off x="2971800" y="2971800"/>
            <a:ext cx="32767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5_spelling_fix.png"/>
          <p:cNvPicPr/>
          <p:nvPr/>
        </p:nvPicPr>
        <p:blipFill>
          <a:blip r:embed="rId1"/>
          <a:stretch/>
        </p:blipFill>
        <p:spPr>
          <a:xfrm>
            <a:off x="130320" y="0"/>
            <a:ext cx="88833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523880" y="3809880"/>
            <a:ext cx="4114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Pick the correct spelling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5_spelling_right.png"/>
          <p:cNvPicPr/>
          <p:nvPr/>
        </p:nvPicPr>
        <p:blipFill>
          <a:blip r:embed="rId1"/>
          <a:stretch/>
        </p:blipFill>
        <p:spPr>
          <a:xfrm>
            <a:off x="141120" y="0"/>
            <a:ext cx="88617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57200" y="3581280"/>
            <a:ext cx="4876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Sometimes it’s not wrong!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6_Check_errors.png"/>
          <p:cNvPicPr/>
          <p:nvPr/>
        </p:nvPicPr>
        <p:blipFill>
          <a:blip r:embed="rId1"/>
          <a:stretch/>
        </p:blipFill>
        <p:spPr>
          <a:xfrm>
            <a:off x="141120" y="0"/>
            <a:ext cx="88617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457200" y="3581280"/>
            <a:ext cx="2743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When you’re done, check your work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for errors…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Freeform 10"/>
          <p:cNvSpPr/>
          <p:nvPr/>
        </p:nvSpPr>
        <p:spPr>
          <a:xfrm flipH="1">
            <a:off x="2994840" y="4495680"/>
            <a:ext cx="2490840" cy="1193760"/>
          </a:xfrm>
          <a:custGeom>
            <a:avLst/>
            <a:gdLst>
              <a:gd name="textAreaLeft" fmla="*/ -360 w 2490840"/>
              <a:gd name="textAreaRight" fmla="*/ 2490840 w 249084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1544" h="1488">
                <a:moveTo>
                  <a:pt x="1544" y="0"/>
                </a:moveTo>
                <a:cubicBezTo>
                  <a:pt x="924" y="164"/>
                  <a:pt x="304" y="328"/>
                  <a:pt x="152" y="576"/>
                </a:cubicBezTo>
                <a:cubicBezTo>
                  <a:pt x="0" y="824"/>
                  <a:pt x="552" y="1336"/>
                  <a:pt x="632" y="14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is NoodleBib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Create, organize and store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Make a bibliography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e notes onlin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Organize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[essay, speech, product…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6_Check_errors_fix.png"/>
          <p:cNvPicPr/>
          <p:nvPr/>
        </p:nvPicPr>
        <p:blipFill>
          <a:blip r:embed="rId1"/>
          <a:stretch/>
        </p:blipFill>
        <p:spPr>
          <a:xfrm>
            <a:off x="152280" y="0"/>
            <a:ext cx="8875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5867280" y="3352680"/>
            <a:ext cx="327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nd make chang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7_First_citation.png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1523880" y="480060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Here’s your first citation!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7_First_citation.png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685800" y="48006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You can open the form </a:t>
            </a:r>
            <a:br>
              <a:rPr sz="3200"/>
            </a:b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nd edit it agai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 rot="10191000">
            <a:off x="6730560" y="3292200"/>
            <a:ext cx="1774800" cy="220644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2206440"/>
              <a:gd name="textAreaBottom" fmla="*/ 2206440 h 2206440"/>
            </a:gdLst>
            <a:ahLst/>
            <a:rect l="textAreaLeft" t="textAreaTop" r="textAreaRight" b="textAreaBottom"/>
            <a:pathLst>
              <a:path w="1544" h="1488">
                <a:moveTo>
                  <a:pt x="1544" y="0"/>
                </a:moveTo>
                <a:cubicBezTo>
                  <a:pt x="924" y="164"/>
                  <a:pt x="304" y="328"/>
                  <a:pt x="152" y="576"/>
                </a:cubicBezTo>
                <a:cubicBezTo>
                  <a:pt x="0" y="824"/>
                  <a:pt x="552" y="1336"/>
                  <a:pt x="632" y="14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7_First_citation.png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447920" y="4648320"/>
            <a:ext cx="6629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Click to see a sample in-text reference for your sourc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7391520" y="3200400"/>
            <a:ext cx="12952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05" name="Straight Arrow Connector 8"/>
          <p:cNvCxnSpPr/>
          <p:nvPr/>
        </p:nvCxnSpPr>
        <p:spPr>
          <a:xfrm flipV="1">
            <a:off x="3200040" y="3428640"/>
            <a:ext cx="4267800" cy="1296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7_First_citation.png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8_Parenthetical.png"/>
          <p:cNvPicPr/>
          <p:nvPr/>
        </p:nvPicPr>
        <p:blipFill>
          <a:blip r:embed="rId2"/>
          <a:stretch/>
        </p:blipFill>
        <p:spPr>
          <a:xfrm>
            <a:off x="1790640" y="1047600"/>
            <a:ext cx="5562720" cy="4762800"/>
          </a:xfrm>
          <a:prstGeom prst="rect">
            <a:avLst/>
          </a:prstGeom>
          <a:ln w="0">
            <a:noFill/>
          </a:ln>
        </p:spPr>
      </p:pic>
      <p:sp>
        <p:nvSpPr>
          <p:cNvPr id="108" name="Oval 9"/>
          <p:cNvSpPr/>
          <p:nvPr/>
        </p:nvSpPr>
        <p:spPr>
          <a:xfrm>
            <a:off x="1371600" y="1219320"/>
            <a:ext cx="335268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09" name="Straight Arrow Connector 8"/>
          <p:cNvCxnSpPr/>
          <p:nvPr/>
        </p:nvCxnSpPr>
        <p:spPr>
          <a:xfrm flipH="1" flipV="1">
            <a:off x="4876560" y="2437920"/>
            <a:ext cx="2591280" cy="915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7_First_citation.png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1447920" y="4800600"/>
            <a:ext cx="609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If you’re confused…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7543800" y="3276720"/>
            <a:ext cx="12193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Freeform 10"/>
          <p:cNvSpPr/>
          <p:nvPr/>
        </p:nvSpPr>
        <p:spPr>
          <a:xfrm rot="12453600">
            <a:off x="6775200" y="3364920"/>
            <a:ext cx="1447560" cy="236052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2360520"/>
              <a:gd name="textAreaBottom" fmla="*/ 2360880 h 2360520"/>
            </a:gdLst>
            <a:ahLst/>
            <a:rect l="textAreaLeft" t="textAreaTop" r="textAreaRight" b="textAreaBottom"/>
            <a:pathLst>
              <a:path w="1544" h="1488">
                <a:moveTo>
                  <a:pt x="1544" y="0"/>
                </a:moveTo>
                <a:cubicBezTo>
                  <a:pt x="924" y="164"/>
                  <a:pt x="304" y="328"/>
                  <a:pt x="152" y="576"/>
                </a:cubicBezTo>
                <a:cubicBezTo>
                  <a:pt x="0" y="824"/>
                  <a:pt x="552" y="1336"/>
                  <a:pt x="632" y="14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9_Have_question.pn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Oval 9"/>
          <p:cNvSpPr/>
          <p:nvPr/>
        </p:nvSpPr>
        <p:spPr>
          <a:xfrm>
            <a:off x="76320" y="1371600"/>
            <a:ext cx="335268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9_Have_question_entered.png"/>
          <p:cNvPicPr/>
          <p:nvPr/>
        </p:nvPicPr>
        <p:blipFill>
          <a:blip r:embed="rId1"/>
          <a:stretch/>
        </p:blipFill>
        <p:spPr>
          <a:xfrm>
            <a:off x="131760" y="0"/>
            <a:ext cx="88804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Oval 9"/>
          <p:cNvSpPr/>
          <p:nvPr/>
        </p:nvSpPr>
        <p:spPr>
          <a:xfrm>
            <a:off x="304920" y="3352680"/>
            <a:ext cx="335268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9_Have_question_entered.png"/>
          <p:cNvPicPr/>
          <p:nvPr/>
        </p:nvPicPr>
        <p:blipFill>
          <a:blip r:embed="rId1"/>
          <a:stretch/>
        </p:blipFill>
        <p:spPr>
          <a:xfrm>
            <a:off x="152280" y="0"/>
            <a:ext cx="88804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Oval 5"/>
          <p:cNvSpPr/>
          <p:nvPr/>
        </p:nvSpPr>
        <p:spPr>
          <a:xfrm>
            <a:off x="1676520" y="5029200"/>
            <a:ext cx="5181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7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ome questions kids have asked…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All this is new to me …how can I tell what’s common knowledge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  <a:ea typeface="Arial"/>
              </a:rPr>
              <a:t>If I wrote it for another class, do I quote myself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  <a:ea typeface="Arial"/>
              </a:rPr>
              <a:t>What if I don’t have the page number because I returned the book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How do I cite You Tube</a:t>
            </a:r>
            <a:r>
              <a:rPr b="0" lang="en-US" sz="3200" spc="-1" strike="noStrike">
                <a:solidFill>
                  <a:srgbClr val="406b8c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ignin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9_Self_assess.png"/>
          <p:cNvPicPr/>
          <p:nvPr/>
        </p:nvPicPr>
        <p:blipFill>
          <a:blip r:embed="rId1"/>
          <a:stretch/>
        </p:blipFill>
        <p:spPr>
          <a:xfrm>
            <a:off x="127080" y="0"/>
            <a:ext cx="88898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Oval 19"/>
          <p:cNvSpPr/>
          <p:nvPr/>
        </p:nvSpPr>
        <p:spPr>
          <a:xfrm>
            <a:off x="3200400" y="2057400"/>
            <a:ext cx="12193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981080" y="12952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elf-assess your work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9_List_analysis.png"/>
          <p:cNvPicPr/>
          <p:nvPr/>
        </p:nvPicPr>
        <p:blipFill>
          <a:blip r:embed="rId1"/>
          <a:stretch/>
        </p:blipFill>
        <p:spPr>
          <a:xfrm>
            <a:off x="147600" y="0"/>
            <a:ext cx="88488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6"/>
          <p:cNvSpPr/>
          <p:nvPr/>
        </p:nvSpPr>
        <p:spPr>
          <a:xfrm>
            <a:off x="1447920" y="22860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sk yourself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7" name="Picture 11" descr="analysis2f"/>
          <p:cNvPicPr/>
          <p:nvPr/>
        </p:nvPicPr>
        <p:blipFill>
          <a:blip r:embed="rId2"/>
          <a:stretch/>
        </p:blipFill>
        <p:spPr>
          <a:xfrm>
            <a:off x="12600" y="6364440"/>
            <a:ext cx="9118800" cy="493560"/>
          </a:xfrm>
          <a:prstGeom prst="rect">
            <a:avLst/>
          </a:prstGeom>
          <a:ln w="0">
            <a:noFill/>
          </a:ln>
        </p:spPr>
      </p:pic>
      <p:cxnSp>
        <p:nvCxnSpPr>
          <p:cNvPr id="128" name="Straight Arrow Connector 9"/>
          <p:cNvCxnSpPr/>
          <p:nvPr/>
        </p:nvCxnSpPr>
        <p:spPr>
          <a:xfrm>
            <a:off x="3809880" y="533520"/>
            <a:ext cx="13723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Straight Arrow Connector 10"/>
          <p:cNvCxnSpPr/>
          <p:nvPr/>
        </p:nvCxnSpPr>
        <p:spPr>
          <a:xfrm>
            <a:off x="2971800" y="2284560"/>
            <a:ext cx="19058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" name="Straight Arrow Connector 11"/>
          <p:cNvCxnSpPr/>
          <p:nvPr/>
        </p:nvCxnSpPr>
        <p:spPr>
          <a:xfrm>
            <a:off x="3733560" y="4646160"/>
            <a:ext cx="19054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1" name="Straight Arrow Connector 12"/>
          <p:cNvCxnSpPr/>
          <p:nvPr/>
        </p:nvCxnSpPr>
        <p:spPr>
          <a:xfrm>
            <a:off x="2361960" y="6477120"/>
            <a:ext cx="190548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91_Teacher_comment.png"/>
          <p:cNvPicPr/>
          <p:nvPr/>
        </p:nvPicPr>
        <p:blipFill>
          <a:blip r:embed="rId1"/>
          <a:stretch/>
        </p:blipFill>
        <p:spPr>
          <a:xfrm>
            <a:off x="131760" y="0"/>
            <a:ext cx="88804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6629400" y="2057400"/>
            <a:ext cx="198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Get comments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and ideas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410080" y="380880"/>
            <a:ext cx="31244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Share your list with [Teacher’s name]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Double Bracket 6"/>
          <p:cNvSpPr/>
          <p:nvPr/>
        </p:nvSpPr>
        <p:spPr>
          <a:xfrm>
            <a:off x="304920" y="1828800"/>
            <a:ext cx="6248160" cy="15238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590920" y="152280"/>
            <a:ext cx="6324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Choose format before exporting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Picture 6" descr="91_Word_list.png"/>
          <p:cNvPicPr/>
          <p:nvPr/>
        </p:nvPicPr>
        <p:blipFill>
          <a:blip r:embed="rId1"/>
          <a:stretch/>
        </p:blipFill>
        <p:spPr>
          <a:xfrm>
            <a:off x="228600" y="1096920"/>
            <a:ext cx="6946920" cy="5761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91_Formatting_options.png"/>
          <p:cNvPicPr/>
          <p:nvPr/>
        </p:nvPicPr>
        <p:blipFill>
          <a:blip r:embed="rId2"/>
          <a:stretch/>
        </p:blipFill>
        <p:spPr>
          <a:xfrm>
            <a:off x="2971800" y="2946240"/>
            <a:ext cx="607212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keep_lists.png"/>
          <p:cNvPicPr/>
          <p:nvPr/>
        </p:nvPicPr>
        <p:blipFill>
          <a:blip r:embed="rId1"/>
          <a:stretch/>
        </p:blipFill>
        <p:spPr>
          <a:xfrm>
            <a:off x="22320" y="0"/>
            <a:ext cx="909936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990720" y="1066680"/>
            <a:ext cx="487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Keep all your list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More instructions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Specifically for this [essay, project…]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Use [MLA, APA or Chicago/Turabian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ite as you go (books, wikis, databases…)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dd notes as you rea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hare your working list and notes with [name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Get feedback as you go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Organize notes with tags and cluster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[essay, speech, product…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Bib</a:t>
            </a:r>
            <a:br>
              <a:rPr sz="4400"/>
            </a:b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Start your source list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486400" y="59436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or more teaching ideas: 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upport [at] noodletools [dot] 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_create_list.png"/>
          <p:cNvPicPr/>
          <p:nvPr/>
        </p:nvPicPr>
        <p:blipFill>
          <a:blip r:embed="rId1"/>
          <a:stretch/>
        </p:blipFill>
        <p:spPr>
          <a:xfrm>
            <a:off x="57240" y="0"/>
            <a:ext cx="9029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7391520" y="1828800"/>
            <a:ext cx="838080" cy="228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52280" y="1981080"/>
            <a:ext cx="3429000" cy="228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_create_list.png"/>
          <p:cNvPicPr/>
          <p:nvPr/>
        </p:nvPicPr>
        <p:blipFill>
          <a:blip r:embed="rId1"/>
          <a:stretch/>
        </p:blipFill>
        <p:spPr>
          <a:xfrm>
            <a:off x="57240" y="0"/>
            <a:ext cx="9029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Oval 4"/>
          <p:cNvSpPr/>
          <p:nvPr/>
        </p:nvSpPr>
        <p:spPr>
          <a:xfrm>
            <a:off x="609480" y="2895480"/>
            <a:ext cx="32767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1_create_list_named.png"/>
          <p:cNvPicPr/>
          <p:nvPr/>
        </p:nvPicPr>
        <p:blipFill>
          <a:blip r:embed="rId1"/>
          <a:stretch/>
        </p:blipFill>
        <p:spPr>
          <a:xfrm>
            <a:off x="123840" y="0"/>
            <a:ext cx="88963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Oval 5"/>
          <p:cNvSpPr/>
          <p:nvPr/>
        </p:nvSpPr>
        <p:spPr>
          <a:xfrm>
            <a:off x="685800" y="4724280"/>
            <a:ext cx="236232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48320" y="5105520"/>
            <a:ext cx="327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Name your lis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ropdown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3733920" y="2666880"/>
            <a:ext cx="4495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What kind of source are you going to cite?</a:t>
            </a: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85800" y="472428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Choose the best match</a:t>
            </a:r>
            <a:br>
              <a:rPr sz="2400"/>
            </a:b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from the drop-down menu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Oval 4"/>
          <p:cNvSpPr/>
          <p:nvPr/>
        </p:nvSpPr>
        <p:spPr>
          <a:xfrm>
            <a:off x="228600" y="1600200"/>
            <a:ext cx="33526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_more_about.png"/>
          <p:cNvPicPr/>
          <p:nvPr/>
        </p:nvPicPr>
        <p:blipFill>
          <a:blip r:embed="rId1"/>
          <a:stretch/>
        </p:blipFill>
        <p:spPr>
          <a:xfrm>
            <a:off x="139680" y="0"/>
            <a:ext cx="88646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495680" y="1828800"/>
            <a:ext cx="4267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Answer the ques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about your sourc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2_fill_form_blank.png"/>
          <p:cNvPicPr/>
          <p:nvPr/>
        </p:nvPicPr>
        <p:blipFill>
          <a:blip r:embed="rId1"/>
          <a:stretch/>
        </p:blipFill>
        <p:spPr>
          <a:xfrm>
            <a:off x="136440" y="0"/>
            <a:ext cx="8871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352680" y="304920"/>
            <a:ext cx="5029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The right form for your source!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27:40Z</dcterms:created>
  <dc:creator/>
  <dc:description/>
  <dc:language>en-US</dc:language>
  <cp:lastModifiedBy>jbaun</cp:lastModifiedBy>
  <dcterms:modified xsi:type="dcterms:W3CDTF">2009-08-27T00:45:33Z</dcterms:modified>
  <cp:revision>96</cp:revision>
  <dc:subject/>
  <dc:title>Creating a Bibliography or Source List</dc:title>
</cp:coreProperties>
</file>